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3.jpeg" ContentType="image/jpeg"/>
  <Override PartName="/ppt/media/image21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B8C3-2AB1-47D4-A722-BF64456AAD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D0A2-FDE2-43BA-AC43-369CB8D8B0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9EAE-323E-435A-AAE1-E4A92F66AF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6CBD-BC1C-402E-8A1D-F2B98AFF28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E8B7-B455-498B-AC09-030607FB83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856B-D0FE-4E18-B4C9-1EABF5967B2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CBE3-C447-43D3-ABFD-56158BC9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588-7AF6-4B98-A33E-C403751D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5C04-C568-42C8-9988-596CB520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799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316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3E3-A992-4460-9FEB-DAE01280A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C6B8-74BD-46C7-8F0F-1EA3C630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4877-DE13-47E2-9616-E9C92BF8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8696-7E9B-4136-8589-8EA4ABFB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D6E55-89CD-42C3-A212-B0978438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7101-B138-4EB2-9F50-5C77096F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4A2B-8D3B-4B11-8DE6-F73167A0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5A8F-BF0C-41F3-A767-16A27C3A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A0D-D113-46F4-A814-A62CAA4D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0815-6646-439E-B31D-AA37EDC4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0CA6-4B4B-4BE9-ABE6-A681064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B1A4-A3B0-499D-B756-0C912C0A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99C7-19A0-4D9B-BE7F-4736BB18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7992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93160" y="1980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7992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93160" y="4806720"/>
            <a:ext cx="248868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498B8-DCF7-4C03-8402-CB3A4C73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D06-B816-4410-BEF9-CB080608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701-5E98-4DF6-863F-FA6D83A9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414-3019-41B2-ACEE-2D52C968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59040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5BB-3878-473D-BF6D-EF770AFC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83D-FF27-4862-9D49-ADC8931D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7040" y="4806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78B0-6A6A-487B-A7C9-DD6932A1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7040" y="1980720"/>
            <a:ext cx="3771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4806720"/>
            <a:ext cx="772956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171-6F05-42CC-B1BC-85939A0D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12800" cy="6846840"/>
            </a:xfrm>
            <a:prstGeom prst="pie">
              <a:avLst/>
            </a:pr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7855-BA3F-4414-98AB-1E34BB212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12800" cy="6846840"/>
            <a:chOff x="0" y="0"/>
            <a:chExt cx="712800" cy="6846840"/>
          </a:xfrm>
        </p:grpSpPr>
        <p:sp>
          <p:nvSpPr>
            <p:cNvPr id="45" name="Rectangle 3"/>
            <p:cNvSpPr/>
            <p:nvPr/>
          </p:nvSpPr>
          <p:spPr>
            <a:xfrm>
              <a:off x="0" y="0"/>
              <a:ext cx="711360" cy="68454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12800" cy="6846840"/>
            </a:xfrm>
            <a:prstGeom prst="pie">
              <a:avLst/>
            </a:prstGeom>
            <a:noFill/>
            <a:ln cap="rnd" w="12600">
              <a:solidFill>
                <a:srgbClr val="009999"/>
              </a:solidFill>
              <a:round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63D8-2A21-4210-9247-B0FBB631D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5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Chapter 15</a:t>
            </a:r>
            <a:br>
              <a:rPr sz="36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CESSION AND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IVIL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6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5800" y="6578640"/>
            <a:ext cx="845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380880" y="228600"/>
            <a:ext cx="83822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ilboDisplay"/>
              </a:rPr>
              <a:t>Lincoln’s Genera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66960" y="5272200"/>
            <a:ext cx="2209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rwin McDow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1160" y="4890960"/>
            <a:ext cx="23619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Winfield Sco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386320" y="606420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George McClellan,</a:t>
            </a:r>
            <a:br>
              <a:rPr sz="1800"/>
            </a:br>
            <a:r>
              <a:rPr b="1" lang="en-US" sz="1800" spc="-1" strike="noStrike">
                <a:solidFill>
                  <a:srgbClr val="d42800"/>
                </a:solidFill>
                <a:latin typeface="Arial"/>
              </a:rPr>
              <a:t>Agai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16" descr="Standing_Winfield_Scot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57120" y="1309680"/>
            <a:ext cx="2238480" cy="358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29" name="Picture 17" descr="Irwin McDowell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966960" y="1614600"/>
            <a:ext cx="2209680" cy="3657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0" name="Picture 4" descr="GeorgeMcClellan"/>
          <p:cNvPicPr/>
          <p:nvPr/>
        </p:nvPicPr>
        <p:blipFill>
          <a:blip r:embed="rId3"/>
          <a:srcRect l="8748" t="0" r="8110" b="1972"/>
          <a:stretch/>
        </p:blipFill>
        <p:spPr>
          <a:xfrm>
            <a:off x="1728720" y="1919160"/>
            <a:ext cx="2208240" cy="3581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1" name="Text Box 6"/>
          <p:cNvSpPr/>
          <p:nvPr/>
        </p:nvSpPr>
        <p:spPr>
          <a:xfrm>
            <a:off x="1728720" y="5500800"/>
            <a:ext cx="22100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George 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McClel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2567160" y="6033960"/>
            <a:ext cx="2514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mbrose Burn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5" descr="Ambrose_Everett_Burnside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2719440" y="2452680"/>
            <a:ext cx="2217600" cy="358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4" name="Text Box 12"/>
          <p:cNvSpPr/>
          <p:nvPr/>
        </p:nvSpPr>
        <p:spPr>
          <a:xfrm>
            <a:off x="3710160" y="5119560"/>
            <a:ext cx="2590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Joseph Hoo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9" descr="Hooker_joseph"/>
          <p:cNvPicPr/>
          <p:nvPr/>
        </p:nvPicPr>
        <p:blipFill>
          <a:blip r:embed="rId5"/>
          <a:srcRect l="2713" t="0" r="7692" b="0"/>
          <a:stretch/>
        </p:blipFill>
        <p:spPr>
          <a:xfrm>
            <a:off x="3633840" y="1461960"/>
            <a:ext cx="2630520" cy="3657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36" name="Picture 18" descr="George_Gordon_Meade"/>
          <p:cNvPicPr/>
          <p:nvPr/>
        </p:nvPicPr>
        <p:blipFill>
          <a:blip r:embed="rId6"/>
          <a:stretch/>
        </p:blipFill>
        <p:spPr>
          <a:xfrm>
            <a:off x="4624560" y="1843200"/>
            <a:ext cx="2361960" cy="3657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7" name="Text Box 10"/>
          <p:cNvSpPr/>
          <p:nvPr/>
        </p:nvSpPr>
        <p:spPr>
          <a:xfrm>
            <a:off x="4624560" y="5500800"/>
            <a:ext cx="2346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George Me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0" descr="GeorgeMcClellan"/>
          <p:cNvPicPr/>
          <p:nvPr/>
        </p:nvPicPr>
        <p:blipFill>
          <a:blip r:embed="rId7"/>
          <a:srcRect l="8748" t="0" r="8110" b="1972"/>
          <a:stretch/>
        </p:blipFill>
        <p:spPr>
          <a:xfrm>
            <a:off x="5386320" y="2514600"/>
            <a:ext cx="2208240" cy="35812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39" name="Text Box 13"/>
          <p:cNvSpPr/>
          <p:nvPr/>
        </p:nvSpPr>
        <p:spPr>
          <a:xfrm>
            <a:off x="6529320" y="519588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Ulysses S. Gr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14" descr="US Grant"/>
          <p:cNvPicPr/>
          <p:nvPr/>
        </p:nvPicPr>
        <p:blipFill>
          <a:blip r:embed="rId8"/>
          <a:stretch/>
        </p:blipFill>
        <p:spPr>
          <a:xfrm>
            <a:off x="6605640" y="1614600"/>
            <a:ext cx="2233440" cy="36003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80880" y="289080"/>
            <a:ext cx="8382240" cy="779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d42800"/>
                </a:solidFill>
                <a:latin typeface="BilboDisplay"/>
              </a:rPr>
              <a:t>The Confederate General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181480" y="548640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Jeb Stu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590920" y="5867280"/>
            <a:ext cx="2209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James Longstr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523880" y="518148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George Pick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04920" y="4572000"/>
            <a:ext cx="2590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tonewall” Jacks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18" descr="Jackson-Stonewall-LOC"/>
          <p:cNvPicPr/>
          <p:nvPr/>
        </p:nvPicPr>
        <p:blipFill>
          <a:blip r:embed="rId1"/>
          <a:srcRect l="10089" t="6331" r="9200" b="7124"/>
          <a:stretch/>
        </p:blipFill>
        <p:spPr>
          <a:xfrm>
            <a:off x="304920" y="1143000"/>
            <a:ext cx="2616120" cy="3352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7" name="Picture 20" descr="General_George_Pickett"/>
          <p:cNvPicPr/>
          <p:nvPr/>
        </p:nvPicPr>
        <p:blipFill>
          <a:blip r:embed="rId2"/>
          <a:stretch/>
        </p:blipFill>
        <p:spPr>
          <a:xfrm>
            <a:off x="1523880" y="1828800"/>
            <a:ext cx="2265480" cy="3352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8" name="Picture 17" descr="James_Longstreet"/>
          <p:cNvPicPr/>
          <p:nvPr/>
        </p:nvPicPr>
        <p:blipFill>
          <a:blip r:embed="rId3"/>
          <a:stretch/>
        </p:blipFill>
        <p:spPr>
          <a:xfrm>
            <a:off x="2590920" y="2514600"/>
            <a:ext cx="2174760" cy="33926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149" name="Picture 15" descr="Nathan Bedford Forest"/>
          <p:cNvPicPr/>
          <p:nvPr/>
        </p:nvPicPr>
        <p:blipFill>
          <a:blip r:embed="rId4"/>
          <a:stretch/>
        </p:blipFill>
        <p:spPr>
          <a:xfrm>
            <a:off x="4114800" y="1219320"/>
            <a:ext cx="2293920" cy="3352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50" name="Text Box 7"/>
          <p:cNvSpPr/>
          <p:nvPr/>
        </p:nvSpPr>
        <p:spPr>
          <a:xfrm>
            <a:off x="4191120" y="457200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athan Bedford Forr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6" descr="Jeb_stuart"/>
          <p:cNvPicPr/>
          <p:nvPr/>
        </p:nvPicPr>
        <p:blipFill>
          <a:blip r:embed="rId5"/>
          <a:srcRect l="2016" t="0" r="5331" b="2274"/>
          <a:stretch/>
        </p:blipFill>
        <p:spPr>
          <a:xfrm>
            <a:off x="5181480" y="2057400"/>
            <a:ext cx="2362320" cy="33526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152" name="Text Box 9"/>
          <p:cNvSpPr/>
          <p:nvPr/>
        </p:nvSpPr>
        <p:spPr>
          <a:xfrm>
            <a:off x="6324480" y="6248520"/>
            <a:ext cx="2286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Robert E. Le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4" descr="Robert E Lee"/>
          <p:cNvPicPr/>
          <p:nvPr/>
        </p:nvPicPr>
        <p:blipFill>
          <a:blip r:embed="rId6"/>
          <a:stretch/>
        </p:blipFill>
        <p:spPr>
          <a:xfrm>
            <a:off x="6114960" y="2895480"/>
            <a:ext cx="2724120" cy="335304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385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385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38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385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385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385" fill="hold"/>
                                        <p:tgtEl>
                                          <p:spTgt spid="1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5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7" dur="385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Overview of Civil War Strategy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55" name="Picture 4" descr="DIVI7233303"/>
          <p:cNvPicPr/>
          <p:nvPr/>
        </p:nvPicPr>
        <p:blipFill>
          <a:blip r:embed="rId1"/>
          <a:stretch/>
        </p:blipFill>
        <p:spPr>
          <a:xfrm>
            <a:off x="2971800" y="1752480"/>
            <a:ext cx="3881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aconda Pla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57" name="Content Placeholder 3" descr="300px-Scott-anaconda.jpeg"/>
          <p:cNvPicPr/>
          <p:nvPr/>
        </p:nvPicPr>
        <p:blipFill>
          <a:blip r:embed="rId1"/>
          <a:srcRect l="-4044" t="0" r="-4044" b="0"/>
          <a:stretch/>
        </p:blipFill>
        <p:spPr>
          <a:xfrm>
            <a:off x="1066680" y="1981080"/>
            <a:ext cx="77295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Mobilizing the Home Front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2: North and South begin conscri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mob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ance war through taxes, bonds, paper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vate industry supplies Union armies w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mobi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 arsenals supply Confederate arm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orts to finance lead to runaway inf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ation system in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80880" y="547560"/>
            <a:ext cx="84582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ilboDisplay"/>
              </a:rPr>
              <a:t>Inflation in the South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chart-Inflation in the South - 1860-1863"/>
          <p:cNvPicPr/>
          <p:nvPr/>
        </p:nvPicPr>
        <p:blipFill>
          <a:blip r:embed="rId1"/>
          <a:srcRect l="0" t="8152" r="0" b="0"/>
          <a:stretch/>
        </p:blipFill>
        <p:spPr>
          <a:xfrm>
            <a:off x="2362320" y="1844640"/>
            <a:ext cx="4572000" cy="37180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olitical Leadership: Northern Success and Southern Failur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7295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expands wartime power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lares martial l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spension of habeas corp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risons 10,000 "subversives" without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ly closed down a few newspa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erson Da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rned mainly with military du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lects civilian morale,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s influence with state gover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NO view of Jeff Davis"/>
          <p:cNvPicPr/>
          <p:nvPr/>
        </p:nvPicPr>
        <p:blipFill>
          <a:blip r:embed="rId1"/>
          <a:srcRect l="0" t="0" r="1002" b="2747"/>
          <a:stretch/>
        </p:blipFill>
        <p:spPr>
          <a:xfrm>
            <a:off x="1143000" y="1219320"/>
            <a:ext cx="7238880" cy="51735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arly Campaigns and Battl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ern achievements by 18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naval suprem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e troops cleared from West Virginia, Kentucky, much of Tenness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Orleans captu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achievements by 186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ll campaign for the Mississippi at Shilo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nd Richmond from cap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DIVI7233308"/>
          <p:cNvPicPr/>
          <p:nvPr/>
        </p:nvPicPr>
        <p:blipFill>
          <a:blip r:embed="rId1"/>
          <a:stretch/>
        </p:blipFill>
        <p:spPr>
          <a:xfrm>
            <a:off x="3048120" y="1905120"/>
            <a:ext cx="3655800" cy="46479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2880" y="590400"/>
            <a:ext cx="3276720" cy="2533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ivil War, 1861-1862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eep South Secede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980720"/>
            <a:ext cx="830412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20,1860: South Carolina sec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, 1861: Confederate States of America form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ed South Carolina, Georgia, Florida, Alabama, Mississippi, Louisiana, and Tex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iplomatic Struggl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688160" cy="55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gla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ligerent rights extended to Confederac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: Recognition of independence on proof that South can win independ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e: Confederacy not recognized unless England does so fir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King Cotton" has little influence on foreign policy of other n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Fight to the Finish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adopts radical measures to w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63: War turns against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Coming of Emancipat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64480" cy="521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 22, 1862: Antietam prompts preliminary Emancipation Procla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ender in 100 days or lose slav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nuary 1, 1863: Proclamation put into effect for area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ill in rebe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Americans flee to Union 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0" name="Content Placeholder 3" descr="EmancipationProclamationDec.jpeg"/>
          <p:cNvPicPr/>
          <p:nvPr/>
        </p:nvPicPr>
        <p:blipFill>
          <a:blip r:embed="rId1"/>
          <a:srcRect l="-42035" t="0" r="-42035" b="0"/>
          <a:stretch/>
        </p:blipFill>
        <p:spPr>
          <a:xfrm>
            <a:off x="1066680" y="1828800"/>
            <a:ext cx="69501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frican Americans and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436840"/>
            <a:ext cx="784080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,000 African American Union tro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unit = 5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assachuset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thers labor in Northern war eff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pushes further for black 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zes governments in conquered Southern states that abolish sla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yland, Missouri abolish slaver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nuary 31, 1865: 13th Amendment pa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6" name="Content Placeholder 3" descr="images.jpeg"/>
          <p:cNvPicPr/>
          <p:nvPr/>
        </p:nvPicPr>
        <p:blipFill>
          <a:blip r:embed="rId1"/>
          <a:srcRect l="-3488" t="0" r="-3488" b="0"/>
          <a:stretch/>
        </p:blipFill>
        <p:spPr>
          <a:xfrm>
            <a:off x="1066680" y="1981080"/>
            <a:ext cx="68202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Tide Tur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4920" y="1904760"/>
            <a:ext cx="7612200" cy="544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, 1863: War-wear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York riots against conscri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nt bogged down at Vicksbur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defeated at Chancellors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s - “Copperheads” attack Linco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ly, 186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 invasion of North fails at Battle of Gettysbu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cksburg falls, North holds the Mississip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Last Stages of the Conflict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9, 1864: Grant made supreme commander of Union ar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invades the South on all fro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iam Sherman marches through Georg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nt lays siege to Richmond, Petersb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ptember, 2: Sherman takes Atlan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, 8: Lincoln re-elec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General Grant in Virginia"/>
          <p:cNvPicPr/>
          <p:nvPr/>
        </p:nvPicPr>
        <p:blipFill>
          <a:blip r:embed="rId1"/>
          <a:stretch/>
        </p:blipFill>
        <p:spPr>
          <a:xfrm>
            <a:off x="3505320" y="1523880"/>
            <a:ext cx="29829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lection of 1864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990720" y="2057400"/>
            <a:ext cx="7696080" cy="22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andidat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rty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opular Vot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oral Vo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ncol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epublic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,213,655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1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cClella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mocratic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,805,237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21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Out of a total of 233 electoral votes. The eleven secessionist states—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abama, Arkansas, Florida, Georgia, Louisiana, Mississippi, No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olina, South Carolina, Tennessee, Texas, and Virginia—did not vo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ecession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99" name="Picture 4" descr="DIVI7233299"/>
          <p:cNvPicPr/>
          <p:nvPr/>
        </p:nvPicPr>
        <p:blipFill>
          <a:blip r:embed="rId1"/>
          <a:stretch/>
        </p:blipFill>
        <p:spPr>
          <a:xfrm>
            <a:off x="914400" y="1905120"/>
            <a:ext cx="8001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76320" y="228600"/>
            <a:ext cx="906768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2800"/>
                </a:solidFill>
                <a:latin typeface="BilboDisplay"/>
              </a:rPr>
              <a:t>The Peace Movement:  Copperhea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3" descr="KGC"/>
          <p:cNvPicPr/>
          <p:nvPr/>
        </p:nvPicPr>
        <p:blipFill>
          <a:blip r:embed="rId1">
            <a:lum contrast="6000"/>
          </a:blip>
          <a:srcRect l="2162" t="1448" r="2569" b="1448"/>
          <a:stretch/>
        </p:blipFill>
        <p:spPr>
          <a:xfrm>
            <a:off x="5257800" y="1219320"/>
            <a:ext cx="3352680" cy="51051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pic>
        <p:nvPicPr>
          <p:cNvPr id="212" name="Picture 4" descr="Clement_Vallandigham_-_Brady-Handy"/>
          <p:cNvPicPr/>
          <p:nvPr/>
        </p:nvPicPr>
        <p:blipFill>
          <a:blip r:embed="rId2"/>
          <a:srcRect l="0" t="1354" r="876" b="2702"/>
          <a:stretch/>
        </p:blipFill>
        <p:spPr>
          <a:xfrm>
            <a:off x="914400" y="1219320"/>
            <a:ext cx="3178080" cy="480060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  <p:sp>
        <p:nvSpPr>
          <p:cNvPr id="213" name="Text Box 5"/>
          <p:cNvSpPr/>
          <p:nvPr/>
        </p:nvSpPr>
        <p:spPr>
          <a:xfrm>
            <a:off x="914400" y="6095880"/>
            <a:ext cx="3200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06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8f8f8"/>
                </a:solidFill>
                <a:latin typeface="Comic Sans MS"/>
              </a:rPr>
              <a:t>Clement Vallandigha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380880" y="272880"/>
            <a:ext cx="78487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2800"/>
                </a:solidFill>
                <a:latin typeface="BilboDisplay"/>
              </a:rPr>
              <a:t>1864 Copperhead Campaign Pos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Copperhead pamphlet - 1864"/>
          <p:cNvPicPr/>
          <p:nvPr/>
        </p:nvPicPr>
        <p:blipFill>
          <a:blip r:embed="rId1"/>
          <a:srcRect l="4612" t="4283" r="3170" b="5713"/>
          <a:stretch/>
        </p:blipFill>
        <p:spPr>
          <a:xfrm>
            <a:off x="2743200" y="1219320"/>
            <a:ext cx="3289320" cy="518148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80880" y="228600"/>
            <a:ext cx="838224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2800"/>
                </a:solidFill>
                <a:latin typeface="BilboDisplay"/>
              </a:rPr>
              <a:t>Cartoon Lampoons Democratic Copperheads in 186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4" descr="pol_cartoon-lampooning Copperhead Dems -1864"/>
          <p:cNvPicPr/>
          <p:nvPr/>
        </p:nvPicPr>
        <p:blipFill>
          <a:blip r:embed="rId1"/>
          <a:srcRect l="3809" t="0" r="4763" b="0"/>
          <a:stretch/>
        </p:blipFill>
        <p:spPr>
          <a:xfrm>
            <a:off x="1523880" y="1752480"/>
            <a:ext cx="6019920" cy="4703760"/>
          </a:xfrm>
          <a:prstGeom prst="rect">
            <a:avLst/>
          </a:prstGeom>
          <a:ln w="936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DIVI7233314"/>
          <p:cNvPicPr/>
          <p:nvPr/>
        </p:nvPicPr>
        <p:blipFill>
          <a:blip r:embed="rId1"/>
          <a:stretch/>
        </p:blipFill>
        <p:spPr>
          <a:xfrm>
            <a:off x="3048120" y="1905120"/>
            <a:ext cx="3605040" cy="4572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76560" y="590400"/>
            <a:ext cx="3886200" cy="2533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ivil War, 1863-1865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Last Stages of the Conflict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0880" y="2133720"/>
            <a:ext cx="751500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rman’s March to the sea through Georg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orched earth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, 1865: Grant takes Richmo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9, 1865: Lee surrenders at Appomatto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4, 1865: Lincoln assassinated by John Wilkes Boo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conspiracy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3" descr="booth"/>
          <p:cNvPicPr/>
          <p:nvPr/>
        </p:nvPicPr>
        <p:blipFill>
          <a:blip r:embed="rId1"/>
          <a:stretch/>
        </p:blipFill>
        <p:spPr>
          <a:xfrm>
            <a:off x="990720" y="1219320"/>
            <a:ext cx="3066840" cy="5438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LincolnAssassination640"/>
          <p:cNvPicPr/>
          <p:nvPr/>
        </p:nvPicPr>
        <p:blipFill>
          <a:blip r:embed="rId2"/>
          <a:stretch/>
        </p:blipFill>
        <p:spPr>
          <a:xfrm>
            <a:off x="4952880" y="1219320"/>
            <a:ext cx="369576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66320" y="1980720"/>
            <a:ext cx="77295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3" descr="528"/>
          <p:cNvPicPr/>
          <p:nvPr/>
        </p:nvPicPr>
        <p:blipFill>
          <a:blip r:embed="rId1"/>
          <a:stretch/>
        </p:blipFill>
        <p:spPr>
          <a:xfrm>
            <a:off x="2362320" y="1523880"/>
            <a:ext cx="510516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ffects of 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543800" cy="538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18,000 troops d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eft women seek non-domestic r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million African Americans free, not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workers face wartime inf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asualties of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38" name="Picture 6" descr="DIVI308"/>
          <p:cNvPicPr/>
          <p:nvPr/>
        </p:nvPicPr>
        <p:blipFill>
          <a:blip r:embed="rId1"/>
          <a:stretch/>
        </p:blipFill>
        <p:spPr>
          <a:xfrm>
            <a:off x="1066680" y="2286000"/>
            <a:ext cx="7772400" cy="263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Effects of the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75656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predominant over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government takes activist role in the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tariffs, free land, national banking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Deep South Secedes, cont.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ederate constitution resembles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restore pre-Republican Party Un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erners hope to attract Northern states into Confeder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An Organizational Revolution</a:t>
            </a:r>
            <a:endParaRPr b="0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2211120"/>
            <a:ext cx="7729560" cy="518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rn bureaucratic state eme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vidualism gives way to organized, cooperative ac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st for transformation of American society in the late nineteenth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The Failure of Compromis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tenden Plan: Extend the Missouri Compromise line to the Pa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rejects comprom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nd the War Came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seeks action to preserv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13, 1861: Fort Sumter, S.C, f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–May: Upper South sece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der states: Slave states remain i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defined as effort to preserve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justing to Total War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th must win by destroying will to res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tal War: a test of societies, economies, political systems as well as arm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Resources of the Union and the Confederacy, 1861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19" name="Picture 8" descr="DIVI293"/>
          <p:cNvPicPr/>
          <p:nvPr/>
        </p:nvPicPr>
        <p:blipFill>
          <a:blip r:embed="rId1"/>
          <a:stretch/>
        </p:blipFill>
        <p:spPr>
          <a:xfrm>
            <a:off x="914400" y="2362320"/>
            <a:ext cx="800100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5904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Prospects, Plans, and Expectations</a:t>
            </a:r>
            <a:endParaRPr b="0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2436840"/>
            <a:ext cx="7729560" cy="491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th adopts defensive strate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ncoln adopts two-front strateg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ture Confederate capital, Richmond, 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conda Pla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ize control of the Mississippi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loy navy to blockade Southern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8:17:17Z</dcterms:created>
  <dc:creator>CMU</dc:creator>
  <dc:description/>
  <cp:keywords/>
  <dc:language>en-US</dc:language>
  <cp:lastModifiedBy>Matthew Myers</cp:lastModifiedBy>
  <cp:lastPrinted>2011-08-16T00:38:00Z</cp:lastPrinted>
  <dcterms:modified xsi:type="dcterms:W3CDTF">2011-11-16T18:55:05Z</dcterms:modified>
  <cp:revision>13</cp:revision>
  <dc:subject/>
  <dc:title>SECESSION AND THE CIVIL WAR</dc:title>
</cp:coreProperties>
</file>